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562-5BDB-4D44-9F21-EB96C340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D4E-65B2-434C-9E39-EE6CE856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80E-7D26-4A8E-84AB-26A75990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141-0526-4EA4-AC68-E56A92F5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B36-E1D7-4357-96B2-DBBF1683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835-35F2-4051-8DA3-F540DADD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3A2-19D0-4FDD-B9CA-ED4D0E77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430-1456-4C30-8E85-3ABBB536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7F9-3760-4463-9DBA-AF4B0ED4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BA0-821F-4B5F-BB6E-627FE3D9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872-AD86-4E2E-B36B-36D4BAED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11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82E-8F49-441C-833D-7AA623DB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ff00"/>
                </a:solidFill>
                <a:latin typeface="Monotype Corsiva"/>
              </a:rPr>
              <a:t>Click to edit the title text format</a:t>
            </a: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DB66-210C-4D70-8AB2-5A0B7A891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276960" y="3429000"/>
            <a:ext cx="2162160" cy="25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ff00"/>
                </a:solidFill>
                <a:latin typeface="Monotype Corsiva"/>
              </a:rPr>
              <a:t>Does Light Affect Plant Growth </a:t>
            </a:r>
            <a:endParaRPr b="0" lang="en-US" sz="63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Monotype Corsiva"/>
              </a:rPr>
              <a:t>Erin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 u="sng">
                <a:solidFill>
                  <a:srgbClr val="00ff00"/>
                </a:solidFill>
                <a:uFillTx/>
                <a:latin typeface="Monotype Corsiva"/>
              </a:rPr>
              <a:t>Problem</a:t>
            </a:r>
            <a:endParaRPr b="0" lang="en-US" sz="63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Monotype Corsiva"/>
              </a:rPr>
              <a:t>Do plants grow faster in colored light or normal light?</a:t>
            </a:r>
            <a:endParaRPr b="0" lang="en-US" sz="4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ff00"/>
                </a:solidFill>
                <a:latin typeface="Monotype Corsiva"/>
              </a:rPr>
              <a:t>Introduction</a:t>
            </a: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Monotype Corsiva"/>
              </a:rPr>
              <a:t>Plant almost always are in sunlight so they grow better, but what if they grow better in different colored light</a:t>
            </a:r>
            <a:endParaRPr b="0" lang="en-US" sz="4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ff00"/>
                </a:solidFill>
                <a:latin typeface="Monotype Corsiva"/>
              </a:rPr>
              <a:t>Material </a:t>
            </a: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Three plant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Red light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Green light 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Natural light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35280" y="505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ff00"/>
                </a:solidFill>
                <a:latin typeface="Monotype Corsiva"/>
              </a:rPr>
              <a:t>Hypothesis</a:t>
            </a:r>
            <a:endParaRPr b="0" lang="en-US" sz="63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I think the green will make it grow fastest.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ff00"/>
                </a:solidFill>
                <a:latin typeface="Monotype Corsiva"/>
              </a:rPr>
              <a:t>Variables</a:t>
            </a:r>
            <a:endParaRPr b="0" lang="en-US" sz="69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I think  blue will make it grow fastest because the sky is blue and they are always under the sky all the time</a:t>
            </a:r>
            <a:r>
              <a:rPr b="0" lang="en-US" sz="4000" spc="-1" strike="noStrike">
                <a:solidFill>
                  <a:srgbClr val="99cc00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ff00"/>
                </a:solidFill>
                <a:latin typeface="Monotype Corsiva"/>
              </a:rPr>
              <a:t>Process </a:t>
            </a:r>
            <a:r>
              <a:rPr b="0" lang="en-US" sz="63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63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Have three plant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Have then sit in blue, red, natural light. Same amount of water 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Monotype Corsiva"/>
              </a:rPr>
              <a:t>Measure longest stem and leaf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Monotype Corsiva"/>
              </a:rPr>
              <a:t>Results</a:t>
            </a:r>
            <a:endParaRPr b="0" lang="en-US" sz="6600" spc="-1" strike="noStrike">
              <a:solidFill>
                <a:srgbClr val="00ff00"/>
              </a:solidFill>
              <a:latin typeface="Monotype Corsi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onotype Corsiva"/>
              </a:rPr>
              <a:t>First place was the blue light. 6cm to 9.5cm.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onotype Corsiva"/>
              </a:rPr>
              <a:t>Second place was the red light. 7.5cm to 8.5cm.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onotype Corsiva"/>
              </a:rPr>
              <a:t>Third was natural light 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7:36:23Z</dcterms:created>
  <dc:creator>STERLING  USD376</dc:creator>
  <dc:description/>
  <dc:language>en-US</dc:language>
  <cp:lastModifiedBy>STERLING  USD376</cp:lastModifiedBy>
  <dcterms:modified xsi:type="dcterms:W3CDTF">2011-03-11T15:13:06Z</dcterms:modified>
  <cp:revision>20</cp:revision>
  <dc:subject/>
  <dc:title>PowerPoint Presentation</dc:title>
</cp:coreProperties>
</file>